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83E-5E88-4EE3-82E5-7CB69B39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CD0-FBC7-4A35-9135-133E88D8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EFF-8626-46C7-A638-21D8203E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147-1D93-4A35-9514-BA136EC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DB8C-4CE3-4CEC-9961-361B7B37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E1C-2EE8-481C-AE25-62DDD136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DAF9-DD06-43D4-9FBB-859137B6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5FD4-D6C8-43EC-BD28-65B235C4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4329-164E-4166-9FF0-F1007549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3FFE-21E1-45BB-ABBB-E364C4A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5DD-C9E9-45F3-B557-828E916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1B4-3FAE-45CA-8460-70D67D64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7386-40A9-422C-B6C3-CD41E53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9C2B-CE0D-45F3-9EE7-00066C4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43E-1F95-496A-9F5C-19B9C84D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EF06-3AAC-48CE-B560-8954D9D8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B1AB-91ED-4A41-A486-B47AD76E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0B5-B4AA-4F42-9F54-D00F8A8C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9DB-0E3A-4B6B-8ADE-804D6B79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CA3-CD22-4D84-96CC-2FAA272F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CE4-8646-4A27-8FA0-393026D4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BB0-4A67-44C7-A147-51C584C2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50A-EA76-4496-B932-5A2CCE89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6A3-5226-427E-9616-8682DA5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5916-74F7-4633-9822-0E6658E44A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9F68-DD69-47D5-9BCB-0F575877F4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Bodoni MT Black"/>
              </a:rPr>
              <a:t>ВСЕРОССИЙСКАЯ ФЕДЕРАЦИЯ ЛЕГКОЙ АТЛЕ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Bodoni MT Black"/>
              </a:rPr>
              <a:t>ДЕПАРТАМЕНТ ПО ФИЗИЧЕСКОЙ КУЛЬТУРЕ И СПОРТУ КРАСНОДАРСКОГО КРА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Bodoni MT Black"/>
              </a:rPr>
              <a:t>КРАСНОДАРСКАЯ КРАЕВАЯ ОРГАНИЗАЦИЯ ОГО ВФСО «ДИНАМО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Bodoni MT Black"/>
              </a:rPr>
              <a:t>КРАСНОДАРСКАЯ КРАЕВАЯ ФЕДЕРАЦИЯ ЛЕГКОЙ АТЛЕТИ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Bodoni MT Black"/>
              </a:rPr>
              <a:t>ООО СК «ЮНОСТЬ» г. СОЧ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9280" y="2421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Bodoni MT Black"/>
              </a:rPr>
              <a:t>ВСЕРОССИЙСКИЕ СОРЕВНОВАНИЯ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 Black"/>
              </a:rPr>
              <a:t>по «длинным» метания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 Black"/>
              </a:rPr>
              <a:t>памяти Заслуженного работ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doni MT Black"/>
              </a:rPr>
              <a:t>физической культуры Российско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 Black"/>
              </a:rPr>
              <a:t>Федерации Лунева А.А.</a:t>
            </a:r>
            <a:r>
              <a:rPr b="1" i="1" lang="en-US" sz="36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doni MT Black"/>
              </a:rPr>
              <a:t>7-8 февраля 2009 г.                                                         г. Сочи, Адлерский район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doni MT Black"/>
              </a:rPr>
              <a:t>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Bodoni MT Black"/>
              </a:rPr>
              <a:t>ООО СК «Юность</a:t>
            </a:r>
            <a:r>
              <a:rPr b="0" lang="en-US" sz="1600" spc="-1" strike="noStrike">
                <a:solidFill>
                  <a:srgbClr val="000000"/>
                </a:solidFill>
                <a:latin typeface="Bodoni MT Black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4:46:51Z</dcterms:created>
  <dc:creator>Admin</dc:creator>
  <dc:description/>
  <dc:language>en-US</dc:language>
  <cp:lastModifiedBy>ммм</cp:lastModifiedBy>
  <dcterms:modified xsi:type="dcterms:W3CDTF">2009-02-08T14:08:13Z</dcterms:modified>
  <cp:revision>31</cp:revision>
  <dc:subject/>
  <dc:title>ФЕДЕРАЛЬНОЕ АГЕНТСТВО ПО ФИЗИЧЕСКОЙ КУЛЬТУРЕ И СПОРТУ ВСЕРОССИЙСКАЯ ФЕДЕРАЦИЯ ЛЕГКОЙ АТЛЕТИКИ КРАСНОДАРСКАЯ КРАЕВАЯ ФЕДЕРАЦИЯ ЛЕГКОЙ АТЛЕТИКИ СОЧИНСКАЯ ГОРОДСКАЯ ОБЩЕСТВЕННАЯ ОРГАНИЗАЦИЯ «Центр организации и проведения спортивно-массовых, оздоровительных мероприятий»</dc:title>
</cp:coreProperties>
</file>